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BE6-D4F2-461D-AA4F-3C6E93BA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973-560E-499A-8A77-998BBCBA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A229-21A1-4315-9F0D-B2281622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1EB-129C-41DE-80FB-47CDFA72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5FB-AB9D-4012-B0D3-4469E24C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A62-C463-4E25-81D6-8F48D73D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67E-13A8-415C-BE0B-62C29958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37C-74E2-4E2B-9951-BC53BA08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292-F44B-45E8-84C6-31C5A186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5D3-2CBB-46B2-BE4D-426327A0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F07-3D89-4B25-A6B1-09CD7633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3976-199F-43A7-B8F7-C01B8CE0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09BB-202B-4DCD-A253-2C05A239B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1446480"/>
            <a:ext cx="9147240" cy="96984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3399"/>
                </a:solidFill>
                <a:latin typeface="comic"/>
              </a:rPr>
              <a:t>35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1.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, Божи ден, ден осветен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ти правиш ме да съм блажен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Донасяш ми ти свят покой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душа ми мир от Бога мо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36360" y="-1647360"/>
            <a:ext cx="8496000" cy="96001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, Божи ден на радост, мир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ти за душата свят си пир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Бъди сега помежду нас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чрез Своя Дух, о, Боже наш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1486800"/>
            <a:ext cx="9144000" cy="98733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3.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, Господи, в тоз светъл ден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да бъда аз благословен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чрез Твоя Дух възобновен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рай да празнувам аз Твоя ден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9:06:14Z</dcterms:created>
  <dc:creator>TrifonTrifonow</dc:creator>
  <dc:description/>
  <dc:language>en-US</dc:language>
  <cp:lastModifiedBy>TrifonTrifonow</cp:lastModifiedBy>
  <dcterms:modified xsi:type="dcterms:W3CDTF">2005-10-20T18:09:34Z</dcterms:modified>
  <cp:revision>7</cp:revision>
  <dc:subject/>
  <dc:title>Slide 1</dc:title>
</cp:coreProperties>
</file>